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C84-E2BD-4AA5-BCFC-306F9A8F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FA4-47CA-45ED-96C9-0A021116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402-97F1-46D6-BDE3-956E3EBA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6DD-DE21-4047-8093-7B138257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0B0-BA78-46C4-8F15-22D22AC2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CEA-7871-40F8-A00C-6E5F9373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BD1-5952-4DEE-A764-62C28D5C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29C1-1D18-486A-B2CD-28D809F9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FCA-83AD-4FC6-8C15-D642B20C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476-83C0-491D-9AC5-C80FC59B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788-85C4-498D-9902-0DA35A3A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D31-6DDB-4516-B617-B1120A78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9685-3BA2-4289-B6C4-8AE989049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77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Ess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48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ing the paper from beginning to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ing the introduction but in reverse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Restate the 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General statement about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losing statement to wrap i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Compare/Contrast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-to-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one subject then describe the other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ities-to-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bout how they are similar and then about how they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bout one point for both subjects before moving to another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A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Person – this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per, no “I’s” or “you’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in present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A sty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: italics vs. quotation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S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aper is going to tell y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paper I will discuss y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going to explain y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aper is about the similarities and differenc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a nutshel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Int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. Supporting Detail 1 (Topic Sent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ook and Movi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. Supporting Detail 2 (Topic Sent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ook and Movi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. Supporting Detail 3 (Top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ook and Movi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ment that you are trying to prove/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organization of your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ain components: claim and details to sustai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like a bridg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4357800"/>
            <a:ext cx="381240" cy="1523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4357800"/>
            <a:ext cx="381240" cy="1523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4357800"/>
            <a:ext cx="380880" cy="1523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4129200"/>
            <a:ext cx="30481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42195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0339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ing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629400" y="557676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791320" y="55767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952880" y="557676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is: Cl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- 1 sentence 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a stance/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eba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in intro and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im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s and oranges are delicious fru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rong or we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im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 they are fortified with different vitamins, apples and oranges are the best fruits a person can cons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rong or we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is: Supporting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 the cl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d into topics/categories (that become the body of the ess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re inexpensive compared to other fruits like berries and other seasonal pro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easily accessible; able to find them all sea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d to the juice versions, they provide more direct sources of vitamins and miner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general part of th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map for furthe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ied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/catchy opening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define, and/or describe the topic (What will you be talking about? Make a general similarity and difference stateme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the thesis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’s Opening Sentenc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grabs atten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usual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ecd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/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ggeration / Outrageous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of 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supporting detail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is a new paragrap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upporting detail = reworded topic sentenc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t beginning of paragrap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ack it up with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xamples from book AND movi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ynthesize your though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0:10:49Z</dcterms:created>
  <dc:creator>HP Authorized Customer</dc:creator>
  <dc:description/>
  <dc:language>en-US</dc:language>
  <cp:lastModifiedBy>Don Dalton</cp:lastModifiedBy>
  <dcterms:modified xsi:type="dcterms:W3CDTF">2012-02-06T04:48:29Z</dcterms:modified>
  <cp:revision>65</cp:revision>
  <dc:subject/>
  <dc:title>Literary Analysis Paper:</dc:title>
</cp:coreProperties>
</file>